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6D5D0E-E1E9-4E93-8E11-3C6E9A442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B12184-C8BB-45FF-8A75-B7AAE5AB4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brief notes througho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azon.com/Boy-Who-Harnessed-Wind-Electricity/dp/0061730327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2008/03/bringing-an-ol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ffee.geek.nz/olpc-viewfinders-made-repra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makezine.com/archive/2009/10/olpc_ox_controls_reprap_prints_ox_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Corps newsfeed of student b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google.com/reader/shared/user%2F00765628753731681854%2Flabel%2FOLPCo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News on Uruguay’s completion of 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olpcnews.com/countries/uruguay/last_xo_laptop_olpc_urugua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PC NY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iki.laptop.org/go/OLPC_New_Y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-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laptop.org/2009/09/28/xo-1-5-create-collaborate-contribut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0.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iki.sugarlabs.org/go/0.86/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sets/7215762245669364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n-disk.com/product_info.php/products_id/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edxmidatlantic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397558753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365C-26E7-405D-B6E2-08AB96634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053C-3513-4A20-B94A-B7F7C12CC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2A91-DD3B-43CB-A7D7-DBB0BCE80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FC72-3B3E-415F-ACC0-D69BCCC1F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0B988-06A4-4EBC-9C98-E1626DA0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7DC8C-10C2-4F03-93C3-4FC15D4B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BB1F5-E4FA-41E0-8434-E805CAF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2A3AE-4820-4930-A83A-C5E71733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366B0-EC69-48B3-B447-E91B30E8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26246-09A6-4E6F-B927-BBC1984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0EB6-2910-4E4D-9933-5D4C2B5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3D0F-FDE8-46F9-91A0-03F2A9865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9A845-6572-4E25-A413-5EF53C15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326D0-7288-440F-9336-88C4B0FD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40E93-854C-4BE8-9425-0A533C87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69F00-D601-425E-8FCC-E0AB5E55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DB4E6-5C4C-42BF-B766-78585C21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BF16-C268-49C2-AECE-0AE55F518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1C79-04D4-4B0A-BD79-8D2C5336E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9FD7-EAEE-4450-A561-2FFCC906A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86D7-EA11-42B7-861B-C285FA2EE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88F2-6804-4F42-ADF4-CF2616AF8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4DCB-C9F1-4620-B3EE-19CC93416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8819-C246-4333-ACE6-6ED52E493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066680"/>
            <a:ext cx="9143640" cy="5435640"/>
            <a:chOff x="360" y="106668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28440" y="1066680"/>
              <a:ext cx="9115560" cy="5435640"/>
              <a:chOff x="28440" y="106668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17600" y="141588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3440" y="141588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40" y="134136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0880" y="146196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0240" y="120636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8720" y="106668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1080" y="118116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2640" y="133812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3480" y="286848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2760" y="516240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7480" y="110808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1320" y="530856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960" y="345420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" y="3284280"/>
              <a:ext cx="2193840" cy="2694240"/>
              <a:chOff x="360" y="328428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5760" y="580788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9680" y="58028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6840" y="57952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29040" y="580932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5840" y="5817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38320" y="581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1880" y="5812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3120" y="5785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4160" y="5790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6640" y="57981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6240" y="58060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6120" y="5721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68600" y="57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0720" y="57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3200" y="5756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1560" y="56156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3680" y="5644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57960" y="5661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09720" y="56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5400" y="54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2560" y="5515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79720" y="554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5440" y="557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1600" y="5338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3440" y="53683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87800" y="5399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6400" y="542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26840" y="515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598040" y="5195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68160" y="52308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4680" y="5270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3280" y="497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3120" y="5006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0800" y="5047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5880" y="5081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56880" y="4763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1400" y="48034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28800" y="4844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07560" y="4889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18800" y="4559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3320" y="4600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1880" y="4639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4240" y="46814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1760" y="4350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3200" y="4392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3200" y="4430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1760" y="447156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3040" y="4157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2040" y="41907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6720" y="4228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1400" y="4271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6080" y="3972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3360" y="401292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5960" y="4049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1800" y="408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4560" y="3816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4720" y="38433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88840" y="3878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09360" y="3905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6320" y="3673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39800" y="370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3560" y="3730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2360" y="3755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8240" y="371304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7760" y="462564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2880" y="463860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37480" y="3569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3840" y="358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1280" y="3607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2960" y="3627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48120" y="3494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0960" y="3507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6240" y="3517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6200" y="3537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27800" y="3447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1720" y="3456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19600" y="3463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67480" y="3470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5960" y="3444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3480" y="3441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1360" y="3436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0320" y="3439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0880" y="347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08760" y="3467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0960" y="3461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0280" y="34531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4360" y="3545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3680" y="3529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19760" y="3513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0800" y="3496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5400" y="36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99000" y="3638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3280" y="361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6120" y="359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5440" y="35766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-3240" y="4982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07120" y="5165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1480" y="408600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08080" y="417024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3560" y="58590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67680" y="585900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69160" y="582408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4760" y="5751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59840" y="5641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7000" y="549864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5360" y="53305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31680" y="36223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2400" y="35064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6320" y="33969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4280" y="339048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0360" y="343116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6640" y="35010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58800" y="36082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2800" y="374760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17640" y="39114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898280" y="40971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29960" y="4295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2040" y="4511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3800" y="494172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49160" y="514512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6040" y="462276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" y="3965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840" y="38527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1360" y="520380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8960" y="406080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2360" y="395604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20" y="5735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20" y="370044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0" y="5745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5160" y="472608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57200" y="343188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7440" y="531648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78480" y="5280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20" y="361800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6560" y="448092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8000640" y="6400440"/>
            <a:ext cx="841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9DE-70EA-41CD-B8DE-2285DE7BFA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A51-025B-4056-AB0A-F9C0982F8D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ee@aarp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log.makezine.com/archive/2009/10/olpc_ox_controls_reprap_prints_ox_p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uriouslee/sets/72157622456693641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flickr.com/photos/curiouslee/sets/72157622456693641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on-disk.com/product_info.php/products_id/88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curiouslee/3975587531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mills, XO Reprap, Cambridge &amp; XtraOrdin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e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Updated after the meeting with link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laude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day, October 17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2954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olpc_lc_dc_logo_one_line" descr=""/>
          <p:cNvPicPr/>
          <p:nvPr/>
        </p:nvPicPr>
        <p:blipFill>
          <a:blip r:embed="rId1"/>
          <a:srcRect l="4687" t="28007" r="9376" b="32004"/>
          <a:stretch/>
        </p:blipFill>
        <p:spPr>
          <a:xfrm>
            <a:off x="1905120" y="0"/>
            <a:ext cx="53337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 more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mail Mike Lee at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Arial"/>
                <a:hlinkClick r:id="rId1"/>
              </a:rPr>
              <a:t>curiouslee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6CD3-727F-4DE9-976E-CF343FCD89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rite recent read: The Boy Who Harnessed The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 Olliver’s Reprap controlled by an XO-1 to print viewf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from 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Lab S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isk XtraOrdinary SD card for the XO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DE55-35BD-4858-84D1-3B902FB150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iam Kamkwamba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oy Who Harnessed The W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william_kamkwamba_500x_windguy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william-kamkwamba-boo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2412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william-kamkwamba-earlier-windmill" descr=""/>
          <p:cNvPicPr/>
          <p:nvPr/>
        </p:nvPicPr>
        <p:blipFill>
          <a:blip r:embed="rId3"/>
          <a:stretch/>
        </p:blipFill>
        <p:spPr>
          <a:xfrm>
            <a:off x="6629400" y="1657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00" name="meal_kamb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3D35-4D0C-4CFF-9FCD-A439A8EE1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’s B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william_kamkwamba_blog_olpc_xo" descr=""/>
          <p:cNvPicPr/>
          <p:nvPr/>
        </p:nvPicPr>
        <p:blipFill>
          <a:blip r:embed="rId1"/>
          <a:srcRect l="0" t="0" r="0" b="5555"/>
          <a:stretch/>
        </p:blipFill>
        <p:spPr>
          <a:xfrm>
            <a:off x="1424160" y="0"/>
            <a:ext cx="6295680" cy="64771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240" y="6477120"/>
            <a:ext cx="750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illiamkamkwamba.typepad.com/williamkamkwamba/2008/03/bringing-an-olp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9FB3-BF55-42B7-9C97-AEBBB91F05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59432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blog.makezine.com/archive/2009/10/olpc_ox_controls_reprap_prints_ox_p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ic Olliver’s Reprap-made Viewfinder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vic_olliver_xo_viewfinders" descr=""/>
          <p:cNvPicPr/>
          <p:nvPr/>
        </p:nvPicPr>
        <p:blipFill>
          <a:blip r:embed="rId1"/>
          <a:srcRect l="7200" t="3198" r="2801" b="5601"/>
          <a:stretch/>
        </p:blipFill>
        <p:spPr>
          <a:xfrm>
            <a:off x="152280" y="12574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407" name="reprap_olpc_viewfinder_vide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011480"/>
            <a:ext cx="320040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830F-377D-48B8-A400-B139EF0EE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s from Cambrid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PCorps Students at 1CC last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uguay completes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for jumpstart event in NYC mid-Nov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push to production of XO-1.5 lap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ar 0.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ing out with Seth and A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t in Walter Bender’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 meld with Caroline M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0C42-7129-42B8-AE82-42B30C615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Lab Sigh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bernoulli_win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2" name="media_lab_extensio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5960" y="5562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highlights of my visit last wee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ickr.com/photos/curiouslee/sets/72157622456693641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9486-AC53-4E8C-A5F2-4993DD1BB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disk XtraOrdinary SD Card OS for the X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5" name="ondisk_XtraOrdinary_on_XO" descr=""/>
          <p:cNvPicPr/>
          <p:nvPr/>
        </p:nvPicPr>
        <p:blipFill>
          <a:blip r:embed="rId1"/>
          <a:stretch/>
        </p:blipFill>
        <p:spPr>
          <a:xfrm>
            <a:off x="0" y="915840"/>
            <a:ext cx="6781680" cy="5088240"/>
          </a:xfrm>
          <a:prstGeom prst="rect">
            <a:avLst/>
          </a:prstGeom>
          <a:ln w="0">
            <a:noFill/>
          </a:ln>
        </p:spPr>
      </p:pic>
      <p:pic>
        <p:nvPicPr>
          <p:cNvPr id="416" name="ondisk_sd_card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016320"/>
            <a:ext cx="55627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on-disk.com/product_info.php/products_id/88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1EF2-9447-4184-8A51-7735FB9068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pco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On After School, Fairfax VA, October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x Mid-Atlantic, Novemb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PC NYC Event, Tentatively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OLPC Learning Club meeting, ACC,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olpc_ny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200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6024-2A4D-4F8C-803A-B6178A7DD9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1:05:25Z</dcterms:created>
  <dc:creator>mik le</dc:creator>
  <dc:description/>
  <dc:language>en-US</dc:language>
  <cp:lastModifiedBy>Mike</cp:lastModifiedBy>
  <cp:lastPrinted>2005-01-24T07:03:34Z</cp:lastPrinted>
  <dcterms:modified xsi:type="dcterms:W3CDTF">2009-10-18T03:23:39Z</dcterms:modified>
  <cp:revision>174</cp:revision>
  <dc:subject/>
  <dc:title>Mapping the Current State of Web Sites</dc:title>
</cp:coreProperties>
</file>